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20C-E028-47DA-B4D5-3ECE63C3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3A9-CFB8-456E-8E8D-4D63481F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27E-45BC-4C65-8AED-9007C249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2E6-67E6-4A4E-BEF9-F1E8CCA2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D94-CE1F-47C2-AFBD-574E6C21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221-F111-479A-9902-E8A12A4F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C82-2CFE-4BDC-BF99-9908DC82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A28-EA52-4E33-8864-451201A2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842-DF90-4440-A95D-D4E57105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764-34BE-4220-91D7-77EBD835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82F-F0CA-492A-863D-414E48A0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CA9-349C-476E-92F8-813E90AD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700D-7693-47C2-8CE6-33ACF28F2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’automne…Ooooh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’autom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J’aime l’automne parce qu’il y a des couleurs multicolores. J’aime aussi l’automne parce que ma mère fait des confitures à la citrouille. L’automne, je fais aussi beaucoup de bicyclette et des marches dans le parc Rockwood. J’aime mettre mes gros chandails de laine; c’est chaud et confortable! J’aime l’automn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1782720" cy="181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28012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6:16:50Z</dcterms:created>
  <dc:creator>nbdoe</dc:creator>
  <dc:description/>
  <dc:language>en-US</dc:language>
  <cp:lastModifiedBy>nbdoe</cp:lastModifiedBy>
  <dcterms:modified xsi:type="dcterms:W3CDTF">2008-09-19T13:31:45Z</dcterms:modified>
  <cp:revision>3</cp:revision>
  <dc:subject/>
  <dc:title>Slide 1</dc:title>
</cp:coreProperties>
</file>